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2CA5-BA27-42CF-BCE3-CC895B2AC39E}"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36A4-6913-4E20-BB10-AB6B7D9CCF70}"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C09D-7862-44B6-9EE7-7C1150F2DFB7}"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519480" y="299880"/>
            <a:ext cx="552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Responsible Data Use</a:t>
            </a:r>
            <a:r>
              <a:rPr b="0" lang="en-US" sz="1200" spc="-1" strike="noStrike">
                <a:solidFill>
                  <a:srgbClr val="000000"/>
                </a:solidFill>
                <a:latin typeface="Helvetica Neue Light"/>
              </a:rPr>
              <a:t>: Fair Access and Us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fdsn.org/services.htm"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nsf.gov/pubs/policydocs/pappguide/nsf11001/aag_6.jsp#VID4" TargetMode="External"/><Relationship Id="rId2" Type="http://schemas.openxmlformats.org/officeDocument/2006/relationships/hyperlink" Target="http://www.nsf.gov/geo/geo-data-policies/index.jsp"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science.nasa.gov/earth-science/earth-science-data/data-information-policy/"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noaa.gov/partnershippolicy/" TargetMode="External"/><Relationship Id="rId2" Type="http://schemas.openxmlformats.org/officeDocument/2006/relationships/hyperlink" Target="http://www.usgs.gov/laws/info_policies.html" TargetMode="Externa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Responsible Data Use: </a:t>
            </a:r>
            <a:br>
              <a:rPr sz="4800"/>
            </a:br>
            <a:r>
              <a:rPr b="0" lang="en-US" sz="4800" spc="-1" strike="noStrike">
                <a:solidFill>
                  <a:srgbClr val="000000"/>
                </a:solidFill>
                <a:latin typeface="Helvetica Neue Light"/>
              </a:rPr>
              <a:t>Fair Access and Use</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atthew Mayerni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Center for Atmospheric Research</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ppropriate Data Us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6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utting data in the public domain is the solution</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liminates data use restriction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nables data integration</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ncourages non-legal means for resolving problem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mmunities should develop norms as to how data should be made available, used, and attributed</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heck with data centers for data use and attribution polic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ork with collaborators to ensure that the usage and attribution of others’ data meets with community accepted practic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amples:</a:t>
            </a:r>
            <a:endParaRPr b="0" lang="en-US" sz="28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International Polar Year</a:t>
            </a:r>
            <a:endParaRPr b="0" lang="en-US" sz="24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ismology data</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Norms of Appropriate Data Us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63" name=""/>
          <p:cNvSpPr txBox="1"/>
          <p:nvPr/>
        </p:nvSpPr>
        <p:spPr>
          <a:xfrm>
            <a:off x="571320" y="2324160"/>
            <a:ext cx="11645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 International Polar Year (IP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a:t>
            </a:r>
            <a:r>
              <a:rPr b="0" lang="en-US" sz="2000" spc="-1" strike="noStrike">
                <a:solidFill>
                  <a:srgbClr val="606060"/>
                </a:solidFill>
                <a:latin typeface="Helvetica Neue"/>
              </a:rPr>
              <a:t>The IPY Joint Committee requires that IPY data, including operational data delivered in real time, are made available fully, freely, openly, and on the shortest feasible timescale…equitable, non-discriminatory access to all data preferably free of cost, but some reasonable cost-recovery is acceptable.” (IPY Data Policy, 2008, pg. 3)</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a:t>
            </a:r>
            <a:r>
              <a:rPr b="0" lang="en-US" sz="2000" spc="-1" strike="noStrike">
                <a:solidFill>
                  <a:srgbClr val="606060"/>
                </a:solidFill>
                <a:latin typeface="Helvetica Neue"/>
              </a:rPr>
              <a:t>[U]sers of IPY data must formally acknowledge data authors (contributors) and sources. Where possible, this acknowledgment should take the form of a formal citation, such as when citing a book or journal article.” (pg. 4)</a:t>
            </a:r>
            <a:endParaRPr b="0" lang="en-US" sz="20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 Incorporated Research Institutions for Seismology (IRIS) and the International Federation of Digital Seismograph Networks (FDSN)</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a:t>
            </a:r>
            <a:r>
              <a:rPr b="0" lang="en-US" sz="2000" spc="-1" strike="noStrike">
                <a:solidFill>
                  <a:srgbClr val="606060"/>
                </a:solidFill>
                <a:latin typeface="Helvetica Neue"/>
              </a:rPr>
              <a:t>For those programs in which selected principle investigators have initial periods of exclusive data use, data should be made openly available as soon as possible, but no later than two (2) years after the data were collected.” (NSF Division of Earth Sciences, 2010, pg. 2)</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a:t>
            </a:r>
            <a:r>
              <a:rPr b="0" lang="en-US" sz="2000" spc="-1" strike="noStrike">
                <a:solidFill>
                  <a:srgbClr val="606060"/>
                </a:solidFill>
                <a:latin typeface="Helvetica Neue"/>
              </a:rPr>
              <a:t>FDSN Networks and Data Centers appreciate proper acknowledgment when anyone makes use of the data from their organizations.” (FSDN Services website: </a:t>
            </a:r>
            <a:r>
              <a:rPr b="0" lang="en-US" sz="2000" spc="-1" strike="noStrike" u="sng">
                <a:solidFill>
                  <a:srgbClr val="009999"/>
                </a:solidFill>
                <a:uFillTx/>
                <a:latin typeface="Helvetica Neue"/>
                <a:hlinkClick r:id="rId1"/>
              </a:rPr>
              <a:t>http://www.fdsn.org/services.htm</a:t>
            </a:r>
            <a:r>
              <a:rPr b="0" lang="en-US" sz="2000" spc="-1" strike="noStrike">
                <a:solidFill>
                  <a:srgbClr val="606060"/>
                </a:solidFill>
                <a:latin typeface="Helvetica Neue"/>
              </a:rPr>
              <a:t>) </a:t>
            </a:r>
            <a:endParaRPr b="0" lang="en-US" sz="2000" spc="-1" strike="noStrike">
              <a:solidFill>
                <a:srgbClr val="60606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ata User Responsibilities</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65" name=""/>
          <p:cNvSpPr txBox="1"/>
          <p:nvPr/>
        </p:nvSpPr>
        <p:spPr>
          <a:xfrm>
            <a:off x="571320" y="2324160"/>
            <a:ext cx="11645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users are responsible for determining the suitability of data for their purpose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valuating data and metadata for suitability of us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llowing applicable data access and use polic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Giving attribution to archives and data creator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tact data archives with any questions regarding data access and us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67" name="PlaceHolder 2"/>
          <p:cNvSpPr>
            <a:spLocks noGrp="1"/>
          </p:cNvSpPr>
          <p:nvPr>
            <p:ph/>
          </p:nvPr>
        </p:nvSpPr>
        <p:spPr>
          <a:xfrm>
            <a:off x="571680" y="1980720"/>
            <a:ext cx="11950560" cy="6566040"/>
          </a:xfrm>
          <a:prstGeom prst="rect">
            <a:avLst/>
          </a:prstGeom>
          <a:noFill/>
          <a:ln w="0">
            <a:noFill/>
          </a:ln>
        </p:spPr>
        <p:txBody>
          <a:bodyPr lIns="50760" rIns="50760" tIns="50760" bIns="50760" anchor="t">
            <a:normAutofit fontScale="89000"/>
          </a:bodyPr>
          <a:p>
            <a:pPr marL="237240" indent="-2372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usage and sharing policies and principles</a:t>
            </a:r>
            <a:endParaRPr b="0" lang="en-US" sz="28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International Polar Year 2007-2008 Data Policy. http://classic.ipy.org/Subcommittees/final_ipy_data_policy.pdf </a:t>
            </a:r>
            <a:endParaRPr b="0" lang="en-US" sz="20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National Science Foundation Division of Earth Sciences Data Policy. 2010. http://www.nsf.gov/geo/ear/2010EAR_data_policy_9_28_10.pdf  </a:t>
            </a:r>
            <a:endParaRPr b="0" lang="en-US" sz="20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Guch, I. 2011. “It’s Time to Share: Proposed NOAA Data Policy.” Information Briefing for NOS Seminar Series, September 7, 2011. http://www.nodc.noaa.gov/seminars/2011/support/Data_Sharing_Policy_for_NOAA_Grants_information_brief.pdf </a:t>
            </a:r>
            <a:endParaRPr b="0" lang="en-US" sz="20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Uhlir, P.F., R.S. Chen, J.I. Gabrynowicz, and K. Janssen. 2009. “Toward Implementation of the Global Earth Observation System of Systems Data Sharing Principles.” </a:t>
            </a:r>
            <a:r>
              <a:rPr b="0" i="1" lang="en-US" sz="2000" spc="-1" strike="noStrike">
                <a:solidFill>
                  <a:srgbClr val="606060"/>
                </a:solidFill>
                <a:latin typeface="Helvetica Neue"/>
              </a:rPr>
              <a:t>Data Science Journal</a:t>
            </a:r>
            <a:r>
              <a:rPr b="0" lang="en-US" sz="2000" spc="-1" strike="noStrike">
                <a:solidFill>
                  <a:srgbClr val="606060"/>
                </a:solidFill>
                <a:latin typeface="Helvetica Neue"/>
              </a:rPr>
              <a:t> 8: GEO1-GEO91. http://dx.doi.org/10.2481/dsj.35JSL201 </a:t>
            </a:r>
            <a:endParaRPr b="0" lang="en-US" sz="2000" spc="-1" strike="noStrike">
              <a:solidFill>
                <a:srgbClr val="606060"/>
              </a:solidFill>
              <a:latin typeface="Helvetica Neue"/>
            </a:endParaRPr>
          </a:p>
          <a:p>
            <a:pPr marL="237240" indent="-2372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pyright and Data</a:t>
            </a:r>
            <a:endParaRPr b="0" lang="en-US" sz="28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Science Commons. “Protocol for Implementing Open Access Data.” http://sciencecommons.org/projects/publishing/open-access-data-protocol/  </a:t>
            </a:r>
            <a:endParaRPr b="0" lang="en-US" sz="20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Stodden, V. 2009. "The Legal Framework for Reproducible Scientific Research: Licensing and Copyright." </a:t>
            </a:r>
            <a:r>
              <a:rPr b="0" i="1" lang="en-US" sz="2000" spc="-1" strike="noStrike">
                <a:solidFill>
                  <a:srgbClr val="606060"/>
                </a:solidFill>
                <a:latin typeface="Helvetica Neue"/>
              </a:rPr>
              <a:t>Computing in Science &amp; Engineering</a:t>
            </a:r>
            <a:r>
              <a:rPr b="0" lang="en-US" sz="2000" spc="-1" strike="noStrike">
                <a:solidFill>
                  <a:srgbClr val="606060"/>
                </a:solidFill>
                <a:latin typeface="Helvetica Neue"/>
              </a:rPr>
              <a:t> 11(1): 35-40. http://dx.doi.org/10.1109/MCSE.2009.19 </a:t>
            </a:r>
            <a:endParaRPr b="0" lang="en-US" sz="20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Wilbanks, J. 2008. “Public domain, copyright licenses and the freedom to integrate science.” </a:t>
            </a:r>
            <a:r>
              <a:rPr b="0" i="1" lang="en-US" sz="2000" spc="-1" strike="noStrike">
                <a:solidFill>
                  <a:srgbClr val="606060"/>
                </a:solidFill>
                <a:latin typeface="Helvetica Neue"/>
              </a:rPr>
              <a:t>Journal of Science Communication</a:t>
            </a:r>
            <a:r>
              <a:rPr b="0" lang="en-US" sz="2000" spc="-1" strike="noStrike">
                <a:solidFill>
                  <a:srgbClr val="606060"/>
                </a:solidFill>
                <a:latin typeface="Helvetica Neue"/>
              </a:rPr>
              <a:t> 7(2). http://jcom.sissa.it/archive/07/02/Jcom0702%282008%29C01/Jcom0702%282008%29C04/Jcom0702%282008%29C04.pdf </a:t>
            </a:r>
            <a:endParaRPr b="0" lang="en-US" sz="2000" spc="-1" strike="noStrike">
              <a:solidFill>
                <a:srgbClr val="606060"/>
              </a:solidFill>
              <a:latin typeface="Helvetica Neue"/>
            </a:endParaRPr>
          </a:p>
          <a:p>
            <a:pPr marL="23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3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Providing Access to Your Data: Righ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Providing Access to Your Data: Handling Sensitive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Preservation Strategies: Data Transfer and Submission Agreemen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Responsible Data Use: Citation and Credit</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unding agency requiremen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rguments for making data openly availa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pyright and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king data acce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unding Agency Requirements</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ational Science Foundation policy on “Dissemination and Sharing of Research Results”:</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
            </a:r>
            <a:r>
              <a:rPr b="0" lang="en-US" sz="2800" spc="-1" strike="noStrike">
                <a:solidFill>
                  <a:srgbClr val="606060"/>
                </a:solidFill>
                <a:latin typeface="Helvetica Neue"/>
              </a:rPr>
              <a:t>Investigators are expected to share with other researchers, at no more than incremental cost and within a reasonable time, the primary data, samples, physical collections and other supporting materials created or gathered in the course of work under NSF grants. Grantees are expected to encourage and facilitate such sharing.” </a:t>
            </a:r>
            <a:r>
              <a:rPr b="0" lang="en-US" sz="2400" spc="-1" strike="noStrike" u="sng">
                <a:solidFill>
                  <a:srgbClr val="009999"/>
                </a:solidFill>
                <a:uFillTx/>
                <a:latin typeface="Helvetica Neue"/>
                <a:hlinkClick r:id="rId1"/>
              </a:rPr>
              <a:t>http://www.nsf.gov/pubs/policydocs/pappguide/nsf11001/aag_6.jsp#VID4</a:t>
            </a:r>
            <a:r>
              <a:rPr b="0" lang="en-US" sz="2400" spc="-1" strike="noStrike">
                <a:solidFill>
                  <a:srgbClr val="606060"/>
                </a:solidFill>
                <a:latin typeface="Helvetica Neue"/>
              </a:rPr>
              <a:t> </a:t>
            </a:r>
            <a:endParaRPr b="0" lang="en-US" sz="2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NSF GeoScience directorate specifies data management requirements for Ocean Science, Earth Science, and Atmospheric and Geospace Sciences. </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management planning requirements differ amongst the sciences</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 number of data archives are suggested for each science</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ee </a:t>
            </a:r>
            <a:r>
              <a:rPr b="0" lang="en-US" sz="2800" spc="-1" strike="noStrike" u="sng">
                <a:solidFill>
                  <a:srgbClr val="009999"/>
                </a:solidFill>
                <a:uFillTx/>
                <a:latin typeface="Helvetica Neue"/>
                <a:hlinkClick r:id="rId2"/>
              </a:rPr>
              <a:t>http://www.nsf.gov/geo/geo-data-policies/index.jsp</a:t>
            </a:r>
            <a:r>
              <a:rPr b="0" lang="en-US" sz="2800" spc="-1" strike="noStrike">
                <a:solidFill>
                  <a:srgbClr val="606060"/>
                </a:solidFill>
                <a:latin typeface="Helvetica Neue"/>
              </a:rPr>
              <a:t> for details</a:t>
            </a: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unding Agency Requirements</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ASA “Data &amp; Information Policy”:</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
            </a:r>
            <a:r>
              <a:rPr b="0" lang="en-US" sz="2800" spc="-1" strike="noStrike">
                <a:solidFill>
                  <a:srgbClr val="606060"/>
                </a:solidFill>
                <a:latin typeface="Helvetica Neue"/>
              </a:rPr>
              <a:t>NASA commits to the full and open sharing of Earth science data obtained from NASA Earth observing satellites, sub-orbital platforms and field campaigns with all users as soon as such data become available.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re will be no period of exclusive access to NASA Earth science data…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ASA will make available all NASA-generated standard products along with the source code for algorithm software, coefficients, and ancillary data used to generate these products.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ll NASA Earth science missions, projects, and grants and cooperative agreements shall include data management plans to facilitate the implementation of these data principles.” </a:t>
            </a:r>
            <a:r>
              <a:rPr b="0" lang="en-US" sz="2800" spc="-1" strike="noStrike" u="sng">
                <a:solidFill>
                  <a:srgbClr val="009999"/>
                </a:solidFill>
                <a:uFillTx/>
                <a:latin typeface="Helvetica Neue"/>
                <a:hlinkClick r:id="rId1"/>
              </a:rPr>
              <a:t>http://science.nasa.gov/earth-science/earth-science-data/data-information-policy/</a:t>
            </a:r>
            <a:r>
              <a:rPr b="0" lang="en-US" sz="2800" spc="-1" strike="noStrike">
                <a:solidFill>
                  <a:srgbClr val="606060"/>
                </a:solidFill>
                <a:latin typeface="Helvetica Neue"/>
              </a:rPr>
              <a:t> </a:t>
            </a:r>
            <a:endParaRPr b="0" lang="en-US" sz="28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unding Agency Requirements</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AA </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
            </a:r>
            <a:r>
              <a:rPr b="0" lang="en-US" sz="2800" spc="-1" strike="noStrike">
                <a:solidFill>
                  <a:srgbClr val="606060"/>
                </a:solidFill>
                <a:latin typeface="Helvetica Neue"/>
              </a:rPr>
              <a:t>NOAA recognizes that open and unrestricted dissemination of high quality publicly funded information, as appropriate and within resource constraints, is good policy and is the law.” </a:t>
            </a:r>
            <a:r>
              <a:rPr b="0" lang="en-US" sz="2800" spc="-1" strike="noStrike" u="sng">
                <a:solidFill>
                  <a:srgbClr val="009999"/>
                </a:solidFill>
                <a:uFillTx/>
                <a:latin typeface="Helvetica Neue"/>
                <a:hlinkClick r:id="rId1"/>
              </a:rPr>
              <a:t>http://www.noaa.gov/partnershippolicy/</a:t>
            </a:r>
            <a:r>
              <a:rPr b="0" lang="en-US" sz="2800" spc="-1" strike="noStrike">
                <a:solidFill>
                  <a:srgbClr val="606060"/>
                </a:solidFill>
                <a:latin typeface="Helvetica Neue"/>
              </a:rPr>
              <a:t> </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posed Data Policy: “All environmental data and information collected or created under NOAA grants or cooperative agreements awarded after [date] must be made visible, accessible, and independently understandable to users in a timely manner, except where limited by lay, regulation, policy or by security requirements.” (Guch, 2011)</a:t>
            </a:r>
            <a:endParaRPr b="0" lang="en-US" sz="28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GS “Information Policy and Instructions”: </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
            </a:r>
            <a:r>
              <a:rPr b="0" lang="en-US" sz="2800" spc="-1" strike="noStrike">
                <a:solidFill>
                  <a:srgbClr val="606060"/>
                </a:solidFill>
                <a:latin typeface="Helvetica Neue"/>
              </a:rPr>
              <a:t>USGS-authored or produced data and information are considered to be in the U.S. public domain.” </a:t>
            </a:r>
            <a:r>
              <a:rPr b="0" lang="en-US" sz="2800" spc="-1" strike="noStrike" u="sng">
                <a:solidFill>
                  <a:srgbClr val="009999"/>
                </a:solidFill>
                <a:uFillTx/>
                <a:latin typeface="Helvetica Neue"/>
                <a:hlinkClick r:id="rId2"/>
              </a:rPr>
              <a:t>http://www.usgs.gov/laws/info_policies.html</a:t>
            </a:r>
            <a:r>
              <a:rPr b="0" lang="en-US" sz="2800" spc="-1" strike="noStrike">
                <a:solidFill>
                  <a:srgbClr val="606060"/>
                </a:solidFill>
                <a:latin typeface="Helvetica Neue"/>
              </a:rPr>
              <a:t> </a:t>
            </a: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rguments for Making Data Accessible</a:t>
            </a:r>
            <a:endParaRPr b="0" lang="en-US" sz="4400" spc="-1" strike="noStrike">
              <a:solidFill>
                <a:srgbClr val="000000"/>
              </a:solidFill>
              <a:latin typeface="Helvetica Neue Light"/>
            </a:endParaRPr>
          </a:p>
        </p:txBody>
      </p:sp>
      <p:sp>
        <p:nvSpPr>
          <p:cNvPr id="753"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606060"/>
                </a:solidFill>
                <a:latin typeface="Helvetica Neue"/>
              </a:rPr>
              <a:t>Legal considerations. </a:t>
            </a:r>
            <a:r>
              <a:rPr b="0" lang="en-US" sz="3400" spc="-1" strike="noStrike">
                <a:solidFill>
                  <a:srgbClr val="606060"/>
                </a:solidFill>
                <a:latin typeface="Helvetica Neue"/>
              </a:rPr>
              <a:t>Data produced through public investments are public goods and should properly be in the public domai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606060"/>
                </a:solidFill>
                <a:latin typeface="Helvetica Neue"/>
              </a:rPr>
              <a:t>Socio-economic considerations. </a:t>
            </a:r>
            <a:r>
              <a:rPr b="0" lang="en-US" sz="3400" spc="-1" strike="noStrike">
                <a:solidFill>
                  <a:srgbClr val="606060"/>
                </a:solidFill>
                <a:latin typeface="Helvetica Neue"/>
              </a:rPr>
              <a:t>Open online access is the most efficient way to disseminate data in order to maximize their value to the public.</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606060"/>
                </a:solidFill>
                <a:latin typeface="Helvetica Neue"/>
              </a:rPr>
              <a:t>Ethical considerations. </a:t>
            </a:r>
            <a:r>
              <a:rPr b="0" lang="en-US" sz="3400" spc="-1" strike="noStrike">
                <a:solidFill>
                  <a:srgbClr val="606060"/>
                </a:solidFill>
                <a:latin typeface="Helvetica Neue"/>
              </a:rPr>
              <a:t>The public has already paid for the production of data, and thus should be able to access the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606060"/>
                </a:solidFill>
                <a:latin typeface="Helvetica Neue"/>
              </a:rPr>
              <a:t>Good governance considerations. </a:t>
            </a:r>
            <a:r>
              <a:rPr b="0" lang="en-US" sz="3400" spc="-1" strike="noStrike">
                <a:solidFill>
                  <a:srgbClr val="606060"/>
                </a:solidFill>
                <a:latin typeface="Helvetica Neue"/>
              </a:rPr>
              <a:t>Transparency of data and scientific activities are undermined by restricting access to and use of public data.</a:t>
            </a: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ality</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haring data</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 can be difficult to share data with people who aren’t familiar with your projec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ome data might be sensitive, and thus not shareable (or only partially shareab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 might be difficult to determine who is responsible for sharing data, and who has permission to share data within a project</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ing someone else’s data</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 can be difficult to understand someone else’s data</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 might be difficult to find someone else’s data, and determine who to talk with to get acces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fusions over intellectual property (e.g. copyright) might confound open sharing</a:t>
            </a:r>
            <a:endParaRPr b="0" lang="en-US" sz="28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pyright and Data</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7" name=""/>
          <p:cNvSpPr txBox="1"/>
          <p:nvPr/>
        </p:nvSpPr>
        <p:spPr>
          <a:xfrm>
            <a:off x="571320" y="2323800"/>
            <a:ext cx="11861640" cy="712476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t copyrightable</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acts: 2+2 = 4</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easurements: Temperature = 20 C</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pyrightable </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riginal selection and arrangement of data </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etadata: documentation and descriptions of data or processing steps</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pyrights are assigned by default, i.e. without having to officially file for them. </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 lab notebooks or dissertations are copyrighted without researchers filing for them.</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rough employment contracts/agreements, copyrights for research products are often owned by employers (e.g. universities), not creators. </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Making Data Public</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9"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pyright licenses for making data public exist:</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ree/Open Licenses such as GNU General Free Documentation License (GFDL)</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reative Commons licenses</a:t>
            </a:r>
            <a:endParaRPr b="0" lang="en-US" sz="2800" spc="-1" strike="noStrike">
              <a:solidFill>
                <a:srgbClr val="606060"/>
              </a:solidFill>
              <a:latin typeface="Helvetica Neue"/>
            </a:endParaRPr>
          </a:p>
          <a:p>
            <a:pPr lvl="1" marL="613800" indent="-24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r>
              <a:rPr b="0" lang="en-US" sz="3400" spc="-1" strike="noStrike">
                <a:solidFill>
                  <a:srgbClr val="606060"/>
                </a:solidFill>
                <a:latin typeface="Helvetica Neue"/>
              </a:rPr>
              <a:t>BUT</a:t>
            </a:r>
            <a:endParaRPr b="0" lang="en-US" sz="3400" spc="-1" strike="noStrike">
              <a:solidFill>
                <a:srgbClr val="606060"/>
              </a:solidFill>
              <a:latin typeface="Helvetica Neue"/>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uch copyright licenses will inevitably complicate data sharing and integration efforts of any large scale</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re is an amorphous line between what can and cannot be copyrighted within databases</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fferent licenses have different usage requirements, e.g. querying across 10 databases may return results with 10 different usage licenses</a:t>
            </a:r>
            <a:endParaRPr b="0" lang="en-US" sz="2800" spc="-1" strike="noStrike">
              <a:solidFill>
                <a:srgbClr val="606060"/>
              </a:solidFill>
              <a:latin typeface="Helvetica Neue"/>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Matt</dc:creator>
  <dc:description/>
  <dc:language>en-US</dc:language>
  <cp:lastModifiedBy>Matt</cp:lastModifiedBy>
  <dcterms:modified xsi:type="dcterms:W3CDTF">2011-11-06T22:12:36Z</dcterms:modified>
  <cp:revision>82</cp:revision>
  <dc:subject/>
  <dc:title>ESIP Federation 101</dc:title>
</cp:coreProperties>
</file>